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BD5-9840-4C20-A2AC-52AB5417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EA1-4776-41D9-B52D-A48EB191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404-EAFC-4716-8987-08F5FB2B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C28-A2BB-484C-960D-36CBAAE4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152F-D725-463E-8FF5-4B3FD8FC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DADA-0D7E-4629-B95C-7669922E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9B3C-9D07-4C0E-AE1D-4967FA53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D4D9-8CE2-446A-8FB7-4DD7683B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3B15-C493-480E-8A4E-3E7A4245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45F9-4A2D-4027-8EF0-F6283D9F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6B96-A6B5-40AB-8527-3460D5C0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879-D3CD-4059-B2A9-391107EC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20F2-EBD0-4870-A0DE-2D978F6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36B6-456F-4FDF-B34A-3C8CC820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4326-2CDE-47CB-9109-C2F85322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1971-1558-48DD-BFAE-6F290352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A3FD-1954-441A-98F0-39016B60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327-2C5F-48ED-BD09-051AB850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BF2-FE38-4D76-AD4D-E4CED410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382-1C95-4F5A-8F3B-B67DA799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B31-BFEC-497F-9C41-B633D2F8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51B-4983-4EF2-8DB1-2B36C86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52C-6AB6-4C7D-BB9B-89DBE47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A78-A3B8-4517-BD32-E4DA34E7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4E05-C77F-472F-B619-BD9A3C90D9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42BA-5DBD-4C7F-BAA4-468827E5BB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179600" y="2214360"/>
            <a:ext cx="4964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ленький мальч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реньком пальти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дворам шныр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хи собир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Воробей дом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4018"/>
                </a:solidFill>
                <a:latin typeface="Arial"/>
              </a:rPr>
              <a:t>Максимов Сергей, 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4018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4018"/>
                </a:solidFill>
                <a:latin typeface="Arial"/>
              </a:rPr>
              <a:t>Гогорева Л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214720" y="1571760"/>
            <a:ext cx="471456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«Птицеград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88" name="Picture 6" descr="Гогорева Л"/>
          <p:cNvPicPr/>
          <p:nvPr/>
        </p:nvPicPr>
        <p:blipFill>
          <a:blip r:embed="rId1"/>
          <a:stretch/>
        </p:blipFill>
        <p:spPr>
          <a:xfrm>
            <a:off x="428760" y="2786040"/>
            <a:ext cx="3270240" cy="35290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89" name="Прямоугольник 4"/>
          <p:cNvSpPr/>
          <p:nvPr/>
        </p:nvSpPr>
        <p:spPr>
          <a:xfrm>
            <a:off x="285840" y="2142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  <a:ea typeface="Times New Roman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80"/>
                </a:solidFill>
                <a:latin typeface="Calibri"/>
                <a:ea typeface="Times New Roman"/>
              </a:rPr>
              <a:t>«Большерече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507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«Птицегра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синица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снегирь                     вороб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большая желтогрудая                сушеные ягоды                             домов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кусочки сала                                                                            крошки хл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тыквенные семечки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шениц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сойка «воровка»</a:t>
            </a: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00"/>
                </a:solidFill>
                <a:latin typeface="Arial"/>
              </a:rPr>
              <a:t>Мало развесить кормушку – надо каждый  день, а не от случая к случаю, класть в них кор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788000" y="1125360"/>
            <a:ext cx="0" cy="432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>
            <a:off x="2124000" y="1052640"/>
            <a:ext cx="1727280" cy="504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084720" y="1052640"/>
            <a:ext cx="1440000" cy="504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 flipH="1">
            <a:off x="2700360" y="1197000"/>
            <a:ext cx="1295280" cy="32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1332000" y="1916280"/>
            <a:ext cx="0" cy="217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1332000" y="242100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1332000" y="2852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4643280" y="1916280"/>
            <a:ext cx="0" cy="28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7812000" y="1989000"/>
            <a:ext cx="0" cy="217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7812000" y="242100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7812000" y="2924280"/>
            <a:ext cx="0" cy="217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11280" y="277920"/>
            <a:ext cx="4753080" cy="545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огда поклевали вкусного корма, они весело запели свои песенки: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Garamond"/>
              </a:rPr>
              <a:t>Воробей - «Чик- чирик»;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Большая синица -  «Тить – тинь»;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Garamond"/>
              </a:rPr>
              <a:t>Поползень - «Твуть – твуть»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4" descr="Гогорева Л"/>
          <p:cNvPicPr/>
          <p:nvPr/>
        </p:nvPicPr>
        <p:blipFill>
          <a:blip r:embed="rId1"/>
          <a:stretch/>
        </p:blipFill>
        <p:spPr>
          <a:xfrm>
            <a:off x="324000" y="476280"/>
            <a:ext cx="3749400" cy="539604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51280" y="277560"/>
            <a:ext cx="511344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Снегири висят, как попугаи,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Облепив боярышника куст.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Милые, я вас не испугаю!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Воробьи да редкие синицы,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Да без счету стаи воронья.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А на вас вовек не надивиться,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Греясь возле вашего огня!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Но скажите, где вы раньше пели?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Посреди каких снегов и вьюг?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Если к нам зимою прилетели,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Garamond"/>
              </a:rPr>
              <a:t>если и Сибирь вам – теплый юг?!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Garamond"/>
              </a:rPr>
              <a:t>Николай Лухтин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Picture 4" descr="Гогорева Л"/>
          <p:cNvPicPr/>
          <p:nvPr/>
        </p:nvPicPr>
        <p:blipFill>
          <a:blip r:embed="rId1"/>
          <a:stretch/>
        </p:blipFill>
        <p:spPr>
          <a:xfrm>
            <a:off x="395280" y="692280"/>
            <a:ext cx="3456000" cy="5395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812f"/>
                </a:solidFill>
                <a:latin typeface="Arial"/>
              </a:rPr>
              <a:t>В царстве животных наиболее яркими и привлекательными являются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акое словосочетание, как «птица счастья», «птица мира», «птица удачи» свидетельствуют о том, какое большое значение в жизни людей имеют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476360" y="333360"/>
            <a:ext cx="590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Актуальнос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Зимой очень трудно приходится всем птицам, многие из них в это время погибают от хол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812f"/>
                </a:solidFill>
                <a:latin typeface="Arial"/>
              </a:rPr>
              <a:t>Зима в этом году – как никогда холодная, и морозы больше -30С сохранялись на протяжении всего месяца янва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2340000" y="476280"/>
            <a:ext cx="475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Проблем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Я могу помочь птичкам, подкармливая их зимой, так я спасу от гибели многих из н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987640" y="476280"/>
            <a:ext cx="3816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Цел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Проанализировать ряд статей С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812f"/>
                </a:solidFill>
                <a:latin typeface="Arial"/>
              </a:rPr>
              <a:t>Провести мини – исследова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000" spc="-1" strike="noStrike">
                <a:solidFill>
                  <a:srgbClr val="ff0066"/>
                </a:solidFill>
                <a:latin typeface="Arial"/>
              </a:rPr>
              <a:t>изучить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чего можно сделать кормушк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то будет жить в моей кормушк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ой корм в нее необходимо  добавля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9900"/>
                </a:solidFill>
                <a:latin typeface="Arial"/>
              </a:rPr>
              <a:t>Создать банк статистических данных   п. Большая Речка ул. Ленина 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2556000" y="333360"/>
            <a:ext cx="4176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Зада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44751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 «Птицеград» не найдёшь на карте. Он существует там, где люди заботятся о птицах, и может быть в любом посёлке, так я создал его в п. Большая Речка по улице Ленина 3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ели моего «Птицеграда»   - это лесные птицы, те, чт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етают поближе к людям подкормиться в трудную для себ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Гогорева Л"/>
          <p:cNvPicPr/>
          <p:nvPr/>
        </p:nvPicPr>
        <p:blipFill>
          <a:blip r:embed="rId1"/>
          <a:stretch/>
        </p:blipFill>
        <p:spPr>
          <a:xfrm>
            <a:off x="5003640" y="476280"/>
            <a:ext cx="3853080" cy="5438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0360" y="277920"/>
            <a:ext cx="439236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Совсем прост домик для пищух. К дощечке прибить кусок коры. Кору сначала надо вымочить, прибить один край. Вставить прокладку толщиной 5-6 см и прибить второй край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439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Для жителей «Птицеграда» нужны синичники, скворечники. Самые простые гнездовья можно сделать из метлы. В них будут жить дроз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Гогорева Л"/>
          <p:cNvPicPr/>
          <p:nvPr/>
        </p:nvPicPr>
        <p:blipFill>
          <a:blip r:embed="rId1"/>
          <a:stretch/>
        </p:blipFill>
        <p:spPr>
          <a:xfrm>
            <a:off x="4788000" y="4005360"/>
            <a:ext cx="3709800" cy="2117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3" name="Picture 7" descr="Копия Гогорева Л"/>
          <p:cNvPicPr/>
          <p:nvPr/>
        </p:nvPicPr>
        <p:blipFill>
          <a:blip r:embed="rId2"/>
          <a:stretch/>
        </p:blipFill>
        <p:spPr>
          <a:xfrm>
            <a:off x="539640" y="333360"/>
            <a:ext cx="3240360" cy="216216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4720" y="549360"/>
            <a:ext cx="4680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У меня на голове черная шапочка, спинка, крылья и хвост темные, а грудка ярко-желтая. Будто в желтый жилетик нарядилась. Летом я питаюсь жучками, червячками, а зимой, в бескормицу, ем все: и разные зернышки, и крошки хлеба, и вареные овощи. Но особенно я люблю несоленое сало. Для нее можно принести с осени высушенные тыквенные семеч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Гогорева Л"/>
          <p:cNvPicPr/>
          <p:nvPr/>
        </p:nvPicPr>
        <p:blipFill>
          <a:blip r:embed="rId1"/>
          <a:stretch/>
        </p:blipFill>
        <p:spPr>
          <a:xfrm>
            <a:off x="395280" y="692280"/>
            <a:ext cx="3794040" cy="41018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95280" y="333000"/>
            <a:ext cx="49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ольше всех гибнет от голода большая синица. Для нее можно изготовить кормуш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-из молочных пак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Arial"/>
              </a:rPr>
              <a:t>-из бутыл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-или из дер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Для жителей «Птицеграда» нужны синичники, скворечник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Гогорева Л"/>
          <p:cNvPicPr/>
          <p:nvPr/>
        </p:nvPicPr>
        <p:blipFill>
          <a:blip r:embed="rId1"/>
          <a:stretch/>
        </p:blipFill>
        <p:spPr>
          <a:xfrm>
            <a:off x="539640" y="476280"/>
            <a:ext cx="33354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0-01-29T10:26:03Z</dcterms:modified>
  <cp:revision>6</cp:revision>
  <dc:subject/>
  <dc:title>PowerPoint Presentation</dc:title>
</cp:coreProperties>
</file>